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1C4-FE16-4F6E-B4FB-50ADC46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F25-F076-4F88-877F-25A378A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92-9E74-4CE7-8D92-646D667C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BB-15D5-437A-B272-27953618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E73-9BEF-4EF1-AB11-0572E622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E9D-DD5A-42DE-B16E-B2FFECCB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A52-009B-4E43-8F82-01668A3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1D6-D5CA-488A-B9E8-0F33093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F42-BBE4-4FAF-BFBE-03361178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A25-A340-424D-B8A2-B583AEE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707-8252-4988-B66D-07AE171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3EB-9F49-4832-A9C2-F24D352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F62-D9DF-4EF3-B636-FA332CF2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4 Na základe pevnom stavi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áklade pevnom stavi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 viery, na vekov Ska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príboji búrok neskl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poľahlivá stá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iesku kto sta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 svoj ch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človeka sľuboch klam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ad troskami sa ocit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nov, nádejí len márny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Skala je spásy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tavia dom viery na 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 Kristovi zmysel ž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kotví jeho ná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1:14:08Z</dcterms:modified>
  <cp:revision>20</cp:revision>
  <dc:subject/>
  <dc:title>Je veľký náš Pán, on slávy je Kráľ Nech do všetkých strán  spev vrúcnych znie chvál.</dc:title>
</cp:coreProperties>
</file>